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0B82-3066-4987-8435-A22FE726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F734-F743-4205-A76D-4F90632F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CAA2-C41D-4A6B-9941-8688C013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C0AE-B8C3-422D-B902-46AB72A0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8B7D-1AD7-4389-AA45-129313AF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9A9F-44C7-4D78-839E-CF5FFBFB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599D-46CC-4DBC-BE44-DDBD4ACF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7674-39B3-41E4-A1F1-E301EF5C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8EB0-2939-411C-B1A5-71A8D935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0866-EB49-41AB-B2E6-9A609839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C89C-4B99-4EDC-B284-0892CA08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5275-683A-4DAC-9DF8-4A0610A9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1ADC-F9E0-489A-9558-10E22728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91CD-D47B-4674-895C-CE8E5CA0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9E13-BBB0-4449-9A6D-DE833D52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89C9-B072-45D2-8546-1832FDE2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B76B-2170-4399-9C26-AE7C5C89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EBE2-F944-474C-8936-77C5E23F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0175-16D8-44FE-92C8-2BC26E46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8778-7297-481A-B888-FB3B2852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90EF-0AA2-4471-A885-FF7282D6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555A-665B-463C-A81E-5F69C14C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9048-1AC0-45EB-A415-43F2A1B1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6475-7358-4CC5-8903-44620547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7A71-98CB-4C04-BF56-9AAD32FC8B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A89A-AE4A-4E22-94B0-63F107DAEC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ib.hotchalk.com/contents/4550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cision 2008:  Why the Debates Mat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 Government and Poli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ck 8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. Frec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istorical Debate Moments:  2000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idential Deb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 Gore (Democra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orge W. Bush (Republica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lib.hotchalk.com/contents/459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Moment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re’s odd mo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ategery vs. Lockbox (SN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istorical Debate Moments:  1858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llinois Senate Deb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ven Douglas (Democra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raham Lincoln (Republic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lib.hotchalk.com/contents/15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Moment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Unknown Lincoln holds his own against established Douglas in debate over slav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istorical Debate Moments:  1960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ial Deb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hn F. Kennedy (Democra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chard Nixon (Republic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lib.hotchalk.com/contents/475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Moment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JFK “looks” President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istorical Debate Moments:  197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ial Deb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immy Carter (Democra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rald Ford (Republic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lib.hotchalk.com/contents/456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Moment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Ford flub about Cold War geograp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istorical Debate Moments:  1980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idential Deb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immy Carter (Democra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nald Reagan (Republica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lib.hotchalk.com/contents/454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Moment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you go again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you better off now than you were four years ago?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istorical Debate Moments:  1988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ial Deb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hael Dukakis (Democra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orge H.W. Bush (Republic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lib.hotchalk.com/contents/455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Moment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Kitty Dukakis Ques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istorical Debate Moments:  1988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ce Presidential Deb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loyd Bentsen (Democra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n Quayle (Republic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lib.hotchalk.com/contents/444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Moment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“You’re no Jack Kennedy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istorical Debate Moments:  1992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ce Presidential Deb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 Gore (Democra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n Quayle (Republic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mes Stockdale (Refor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lib.hotchalk.com/contents/505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Moment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“Who am I?  Why am I here?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istorical Debate Moments:  1992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ial Deb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ll Clinton (Democra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orge H.W. Bush (Republic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ss Perot (Refor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Momen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feel your pai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h checks the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7:10:32Z</dcterms:created>
  <dc:creator>Brent J. Freccia</dc:creator>
  <dc:description/>
  <dc:language>en-US</dc:language>
  <cp:lastModifiedBy>Brent J. Freccia</cp:lastModifiedBy>
  <dcterms:modified xsi:type="dcterms:W3CDTF">2008-09-21T19:43:04Z</dcterms:modified>
  <cp:revision>2</cp:revision>
  <dc:subject/>
  <dc:title>Decision 2008:  Why the Debates Matter</dc:title>
</cp:coreProperties>
</file>